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20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21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22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7C3C37C-ADC2-4D61-B47C-90FD21DB34A1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339840" y="80028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74668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Sociālā uzņēmējdarbība ļauj risināt sociālās problēmas ar biznesa instrumentiem - uzņēmums ražo preces vai sniedz pakalpojumus ar mērķi risināt sociālo problēmu, nevis ar mērķi gūt finansiālu labumu uzņēmuma īpašnieki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eidojot sociālo uzņēmumu, pirmais ar ko būtu jāsāk ir izzināt mūsu sabiedrības problēmas un vajadzība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Izejot no tā, definē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- sava uzņēmuma sociālo mērķi (tam ir jābūt pozitīvai sociālai ietekmei un jābūt definētam statūtos vai citā līdzvērtīgā dokumentā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- biznesa ideju, kurai tici un kura ilgtermiņā būs dzīvotspējīga (tai jānes peļņu, lai varētu konkurēt ar citiem uzņēmumiem tirgū un   investēt sociālajos uzņēmuma mērķos)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82736FB-4F14-4998-A86A-E3A6238CCDF5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EFE6-B96F-4D3C-B63C-4A55BE8D0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FD24-EE40-4887-AB6E-3AA4F014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4816A9-82E3-48A5-877E-EAD235FB563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077053-5F8D-4A78-BC42-A0C60B3FF20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AF6C1B-A5D2-4A11-9EB2-C81620A0C90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9BCBA8-4C58-465E-A95D-ACD6FC82D3C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56B43D-A424-4215-A0BF-6E0AD58D19B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93EE9F-8EC1-4854-A002-2F5C15D55FE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AE6E87-01D4-4193-9F98-C8611FD6F16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3A251F-4CCA-44AA-8F68-A275FF1C9AD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36C830-530C-4123-ACBA-30961AC5E9F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F441-18D7-4DC6-B6E9-75F2CBADC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B3BE-E78B-4BD3-B2CE-5EA2D0C8E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1D1DC7-88A1-4E8C-B0FD-00EBF3E19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952AEC-A592-4D9B-BD21-EFDF3A6B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FECB9F-BB79-4535-829A-FFF99760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5BE5B4-6F75-4A38-ABB2-9C3B0521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18BB45-721C-4F32-B742-18AF062A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0BD349-E464-4248-A2AC-A46E5AF0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D4D2C9-0910-42CE-A21B-51A8CCB1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7B1450-10CB-4534-8683-8300BE89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6EF7BB-6F7D-4B19-8B21-1DDC82AC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235B4C-9851-4530-BA6E-406371F1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DC00CE-FA9E-44F8-8D62-A99737185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240A12-393B-4713-94BC-E1A050EAC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CF6CF1-3CF7-447F-973E-4F6F7DFB4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D79AA5-8F6D-41B1-95D3-BDCD46D3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4260C5-6702-46DA-B0D7-E64DACA0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95635A-01F2-4DC7-AB19-0310B593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BE3544-E817-4DE1-884C-53526845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B54460-EFB1-48FE-8DE1-2385650E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DA6D58-7D33-4C37-BEDD-E3614F06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BDC75C-591C-4BCC-9883-F42F413F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0394AC-2A17-4325-B310-04C81159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B09C14-1FD4-4FF3-A1C2-EA2F19B4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5DB6C4-2732-48AB-9131-3CE11F0AF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2EB508-D494-48E0-9E8C-F72947DDA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48B192-2447-4574-B146-B0F98365A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970DEC-12CE-4AE5-B1A0-FF025B6F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3FAD53-D74C-4AF4-A87D-70930759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92E368-F317-489A-BE9B-0FAE5711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29D345-E205-45B7-9722-C9E56D7D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048DA5-B5A8-494E-99A4-4CF6F029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D4AEBD-A36D-4C10-8A1A-5B3BD10B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DDC317-E96B-4205-9A3D-F081C7D1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197632-BAAE-41F9-80B7-F33DBE67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9511BD-08DE-44A3-84C6-1932AF9E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B758EF-C5AD-466D-932E-B9B3EE9DF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C54386-0DFF-4506-BCAC-706C9666F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00C8-1E66-4DD7-9431-C4BF5E45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0AF5D-0FDD-4283-8DFC-7079725008E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FF5114-1CBF-4E55-B0C5-BC41DB655FD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BAC0C-A0EE-4CBF-BE8F-9E7F3E51F7D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B19CA6-275F-445A-BE3D-9F822872282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815CF1-3B1B-4025-8695-6469B49EC7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EC12-2B30-42E2-8EBC-88D374AF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81D34E-7A52-44F3-924C-E8CD8A4C092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CBC404-CA77-451F-B62A-D64C5BE5001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AEF7C9-0FCE-4A04-B52F-C0F81AD1D1A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75C36-C096-44A8-B304-83CF00AD100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508C77-72E3-42C5-A5DC-191C2136332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81323D-E6E2-42FF-B655-EC125C57A03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189639-27D4-4CB5-91C5-ACFA4B2D274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C8738-5CF0-40B8-847A-2BE296EF495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E707EF-0DA8-4BFE-B546-2114A6EB468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DEAB7-BA36-4C44-BE4F-720085EFB5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B1F6-45A1-4FEB-A1BF-F1EDB0D6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10224B-0256-48B8-B73A-C558FCB43EF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70F2E-E8F2-479C-84AD-2D1ACA8B5D1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E73C83-E3FB-458D-8EDD-C566BE89F61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3D1F1-E1AA-4B12-A610-314F2A16D3C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3A0D8B-C773-4911-8F87-D84D7184F20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93881-F67C-4E74-9167-8D4ADED1261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A3B190-825D-406B-8167-1A08D7F8C52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6D477-B933-4A83-8B56-4D5584F30F1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F42D2-988C-4211-8D7A-DB8FE48D1AB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CDB7-6891-4757-BD2A-35F84AD1ED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9AEE-E153-4C89-BC1B-9B3B006F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6041-9E9C-4454-AB9A-886361A7D14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EB40-B754-458A-AD20-C8223F88D49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F1E03-0EC4-41EF-BD76-AC3C1BB5A5C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EC64-E129-4C3C-9953-6A0340C8F78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6C218-0164-4A47-9549-99AA268E789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5135E-5270-49D7-AE79-99704B74226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D14AA-8716-4317-BE1B-54CD394F0D7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2374-2F95-4BE2-9EBD-5027C5340A4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ABE0-DFE7-4AF6-A6BE-298BD1E60FE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A81BF-D153-43D1-8859-FAB5E56581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19FC-60E3-4CAE-AB67-5176F430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FF04-237E-4580-9D07-87AC1C56226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AC0B4B-0ECA-43C8-B260-B0B05F72EC4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D4B3B9-60FD-48A8-BAD0-E35CAB54A2C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5BBAEF-2401-4493-9CEF-797B66BD36C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2729DD-7ECA-4A98-8DAA-2656B6F94C1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B5E344-380E-49CC-AFA6-8162FE80810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367720-45A6-45B0-A25A-72B701566FB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A4D9B0-CDBA-455B-8674-9D422BBAF6F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D0DE82-DF55-496B-8995-209179B445E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74FF22-8829-4553-BE34-83380B2801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9CD4-3B21-44DF-A731-56E22D83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4C5FFF-83C2-4C2A-AFE4-A07BC61B211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5B9D54-ACD8-44C1-9284-966E5C5C44C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B210F5-C95A-4D3D-AA83-00B77E384D9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08C34A-3292-405F-A5F4-28E496D44F5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B0AD4C-0ECD-4998-90DD-7637933A225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2E128E-FDB4-4F00-812A-68077A0ED9F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331B4F-CF73-4FB4-B7AC-88FB1A26B79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2205FB-137B-4519-96F8-A54BDC2AD8E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028C96-583A-4C18-8833-1D097DCCC88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ED2C26-C824-4E3D-88C7-6045E575D9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35BB-9592-471C-AB28-99580571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CF16F5-9F6D-4C2F-BCB6-36FB735022B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569104-9035-402B-819E-18A4443D7E8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FA6395-00E4-4C69-98E2-9F841D95FBB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FB1A0D-16B2-40CF-A633-72CE2A12A7A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079D9D-2F64-44E5-A903-C3C6E79FD9C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6FFD8-FA9B-47F6-88C1-24B1A60797D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E4EE2-4258-4E98-8DCD-BDA6F496C96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90AA1-91E0-436C-A64B-019C456438B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AA8C1-1B09-4690-95B4-C02D4BFBDC5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74A3B-3E32-473D-A43F-595FDC15C5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2C5E-3745-48DE-9A2D-1E26AE68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BF4EC-AD62-4107-A21C-5AD92583403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1C255-C78E-4630-8333-546A26D22A2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E92DA-2102-46BA-B2F4-DFC20B1215D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E2D57-A27B-4163-92F4-60245067488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59F22-0FDA-4A00-B270-4C4AE50EBF7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7BF8B-7A2E-460C-B26D-6F108C3A2D9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6C171-DAC7-4EFB-9865-6E25523BED3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CB31DF-67F7-480D-894A-C7FAB580EEF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F93EE9-89AB-432A-A49A-7BFD5D03D73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AAD9AC-ABE7-4E8B-A1C7-D87B9B98E4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EF654B7-EAFC-4114-8378-5F1106E882E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B552F06-0B99-47EF-A705-D35656C9F9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7" descr=""/>
          <p:cNvPicPr/>
          <p:nvPr/>
        </p:nvPicPr>
        <p:blipFill>
          <a:blip r:embed="rId2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"/>
          <p:cNvPicPr/>
          <p:nvPr/>
        </p:nvPicPr>
        <p:blipFill>
          <a:blip r:embed="rId3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84EFE68-C993-4B0E-9E1F-ED75B016D02B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BFC748A-31CC-400A-AFAE-7F8729B36655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8EBE68B-0C79-46A4-8F2A-98B675CF14D6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7AA8354-147B-42BC-AD3E-96DF5E1E4174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9D20ACF-07F4-491E-B590-D11E36108A99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67F8A4B-9249-4801-91F7-4B4F2670976F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685800" y="4724280"/>
            <a:ext cx="77724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56C560B-E633-4F86-AC1D-41EFFC751A2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7EA3D06-73B8-44DB-A37E-EE78FD2C032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EE4AD37-1781-48CC-A13D-250FA2CC653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C43C172-EF09-42B3-9B89-B7971080449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8FB1278-B051-4D52-9454-E8E91DE3481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7A52E49-B04E-4FD5-A4CF-354079E71AE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9B42683-3515-4D84-B155-67096EEED27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66880" y="2813040"/>
            <a:ext cx="7772400" cy="1874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>
                <a:solidFill>
                  <a:srgbClr val="404040"/>
                </a:solidFill>
                <a:latin typeface="Verdana"/>
                <a:ea typeface="Verdana"/>
              </a:rPr>
              <a:t>Eiropas Sociālā fonda projekta</a:t>
            </a:r>
            <a:br>
              <a:rPr sz="1900"/>
            </a:br>
            <a:r>
              <a:rPr b="1" lang="lv-LV" sz="1900" spc="-1" strike="noStrike">
                <a:solidFill>
                  <a:srgbClr val="404040"/>
                </a:solidFill>
                <a:latin typeface="Verdana"/>
                <a:ea typeface="Verdana"/>
              </a:rPr>
              <a:t>«Atbalsts sociālajai uzņēmējdarbībai»</a:t>
            </a:r>
            <a:r>
              <a:rPr b="1" lang="lv-LV" sz="2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br>
              <a:rPr sz="2600"/>
            </a:br>
            <a:r>
              <a:rPr b="1" lang="lv-LV" sz="1100" spc="-1" strike="noStrike">
                <a:solidFill>
                  <a:srgbClr val="404040"/>
                </a:solidFill>
                <a:latin typeface="Verdana"/>
                <a:ea typeface="Verdana"/>
              </a:rPr>
              <a:t>vienošanās Nr. 9.1.1.3/15/I/001 </a:t>
            </a:r>
            <a:br>
              <a:rPr sz="700"/>
            </a:br>
            <a:br>
              <a:rPr sz="1900"/>
            </a:br>
            <a:br>
              <a:rPr sz="1600"/>
            </a:br>
            <a:br>
              <a:rPr sz="2000"/>
            </a:br>
            <a:br>
              <a:rPr sz="2200"/>
            </a:br>
            <a:br>
              <a:rPr sz="1900"/>
            </a:br>
            <a:br>
              <a:rPr sz="1900"/>
            </a:br>
            <a:br>
              <a:rPr sz="1700"/>
            </a:br>
            <a:br>
              <a:rPr sz="1700"/>
            </a:br>
            <a:br>
              <a:rPr sz="13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98640" y="587988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4" descr=""/>
          <p:cNvPicPr/>
          <p:nvPr/>
        </p:nvPicPr>
        <p:blipFill>
          <a:blip r:embed="rId1"/>
          <a:stretch/>
        </p:blipFill>
        <p:spPr>
          <a:xfrm>
            <a:off x="2128680" y="4994280"/>
            <a:ext cx="524844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30040" y="1116000"/>
            <a:ext cx="681804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Informācija par projektu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0" y="1866600"/>
            <a:ext cx="911376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s tiks īstenot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Eiropas Sociālā fonda darbības programmas „Izaugsme un nodarbinātība” 9.1.1. specifiskā atbalsta mērķa „Palielināt nelabvēlīgākā situācijā esošu bezdarbnieku iekļaušanos darba tirgū” 9.1.1.3.pasākuma «Atbalsts sociālajai uzņēmējdarbībai»  ietvar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a īstenotāj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Labklājības ministrija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a partneri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pt-BR" sz="1700" spc="-1" strike="noStrike">
                <a:solidFill>
                  <a:srgbClr val="404040"/>
                </a:solidFill>
                <a:latin typeface="Verdana"/>
                <a:ea typeface="Verdana"/>
              </a:rPr>
              <a:t>AS "Attīstības finanšu institūcija Altum"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lānotās izmaksa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0" lang="lv-LV" sz="1700" spc="-1" strike="noStrike">
                <a:solidFill>
                  <a:srgbClr val="404040"/>
                </a:solidFill>
                <a:latin typeface="Times New Roman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19 920 206</a:t>
            </a:r>
            <a:r>
              <a:rPr b="0" i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euro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a īstenošanas laik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2016.gada 4.janvāris - 2022.gada 31.decembris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76005E5-2AAF-4180-B9AE-686F5BED9AC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6" descr=""/>
          <p:cNvPicPr/>
          <p:nvPr/>
        </p:nvPicPr>
        <p:blipFill>
          <a:blip r:embed="rId1"/>
          <a:stretch/>
        </p:blipFill>
        <p:spPr>
          <a:xfrm>
            <a:off x="6969240" y="-68400"/>
            <a:ext cx="170172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5A5FEFD-2043-43EF-A301-8C3B92297A1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744200" y="780840"/>
            <a:ext cx="5992920" cy="1083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Kas ir sociālā uzņēmējdarbīb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2"/>
          <p:cNvSpPr/>
          <p:nvPr/>
        </p:nvSpPr>
        <p:spPr>
          <a:xfrm>
            <a:off x="582480" y="1515960"/>
            <a:ext cx="8182080" cy="57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Sociālā uzņēmuma izveides mērķis ir vērsts uz sociālo vai sabiedrībai nozīmīgo problēmu risināša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Sociālie uzņēmumi ir tirgus dalībnieki, kas ražo preces un sniedz pakalpojum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Sociālie uzņēmumi gūto peļņu investē sociālā mērķa sasniegšan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Tiek nodarbināti algoti darbiniek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sociālajos uzņēmumos, kuru </a:t>
            </a:r>
            <a:r>
              <a:rPr b="0" lang="lv-LV" sz="1600" spc="-1" strike="noStrike" u="sng">
                <a:solidFill>
                  <a:srgbClr val="404040"/>
                </a:solidFill>
                <a:uFillTx/>
                <a:latin typeface="Verdana"/>
              </a:rPr>
              <a:t>mērķis ir sabiedrībai svarīgas sociālas problēmas risinājum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 un nodarbināti darbinieki, ar kuriem nodibinātas darba tiesiskās attiecīb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darba integrācijas uzņēmumi - sociālo uzņēmumu veids, kuru galvenais </a:t>
            </a:r>
            <a:r>
              <a:rPr b="0" lang="lv-LV" sz="1600" spc="-1" strike="noStrike" u="sng">
                <a:solidFill>
                  <a:srgbClr val="404040"/>
                </a:solidFill>
                <a:uFillTx/>
                <a:latin typeface="Verdana"/>
              </a:rPr>
              <a:t>mērķis ir riska grupu nodarbinātība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– integrācija darba tirgū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8" descr=""/>
          <p:cNvPicPr/>
          <p:nvPr/>
        </p:nvPicPr>
        <p:blipFill>
          <a:blip r:embed="rId1"/>
          <a:stretch/>
        </p:blipFill>
        <p:spPr>
          <a:xfrm>
            <a:off x="7547040" y="111240"/>
            <a:ext cx="145260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3160" y="488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4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Projekta mērķ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Content Placeholder 7" descr=""/>
          <p:cNvPicPr/>
          <p:nvPr/>
        </p:nvPicPr>
        <p:blipFill>
          <a:blip r:embed="rId1"/>
          <a:stretch/>
        </p:blipFill>
        <p:spPr>
          <a:xfrm>
            <a:off x="7151760" y="446040"/>
            <a:ext cx="1009440" cy="106380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12800" y="1712880"/>
            <a:ext cx="7920000" cy="440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rojekta mērķis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ir noteikt un pārbaudīt optimālus risinājumus sociālo uzņēmumu izveidei un attīstībai, tai skaitā darba integrācijas sociālo uzņēmumu atbalstam, lai palielinātu nodarbinātības iespēja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-2854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nelabvēlīgākā situācijā esošiem bezdarbniekiem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-2854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personām ar invaliditāti un personām ar garīga rakstura traucējumiem</a:t>
            </a:r>
            <a:r>
              <a:rPr b="0" lang="lv-LV" sz="1400" spc="-1" strike="noStrike">
                <a:solidFill>
                  <a:srgbClr val="404040"/>
                </a:solidFill>
                <a:latin typeface="Verdana"/>
              </a:rPr>
              <a:t>.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rojekta ietvaros tiks izveidota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o uzņēmumu atbalsta sistēma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 kas ietver sociālo uzņēmumu atlases kritērijus un atbalsta instrumentus. Tāpat atbalsta sistēmas ietvaros izstrādāts pasākuma dalībnieku</a:t>
            </a:r>
            <a:r>
              <a:rPr b="0" i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eģistrs un uzsākts reģistrācijas process, kurā varēs iesaistīties komersanti, biedrības un nodibinājum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rojekts ļaus noteikt efektīvākās atbalsta formas sociālo uzņēmumu attīstībai, lai tiktu veidoti jauni uzņēmumi, radītas darba vietas un ieviestas jaunas un efektīvas pieejas sociālu problēmu risināšanā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4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B7773D1-7E75-4623-B2D3-5BC465ECA91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471680" y="509400"/>
            <a:ext cx="651816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0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Projekta aktivitāt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227160" y="1531440"/>
            <a:ext cx="8364240" cy="5627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abiedrības izpratnes veidošanas un izglītošanas pasākumi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r jaunā projekta iniciatīvu, par sociālās uzņēmējdarbības pazīmēm/kritērijiem, par atbalsta sniegšanas iespējām sociālajai uzņēmējdarbībai un šādas uzņēmējdarbības  pieredzi, projekta mērķa grupu un sabiedrības informēšana saistībā ar projekta uzsākša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o uzņēmumu (</a:t>
            </a:r>
            <a:r>
              <a:rPr b="0" i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sākuma dalībnieku)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eģistra izstrāde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- projekta rezultātā izstrādāti un ieviesti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zīmes/kritēriji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o uzņēmumu atpazīstamība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zsākta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sākuma dalībnieku atlase un reģistrācija (īsteno LM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zsākta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atbalsta sniegšana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komersantiem, biedrībām, nodibinājumiem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īsteno ALTU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 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Atbalsta sniegšana sociālās uzņēmējdarbības uzsācējiem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ās uzņēmējdarbības ideju konkursa organizēšana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īsteno LM)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konsultāciju nodrošināšana sociālās uzņēmējdarbības uzsācēju biznesa plānu izstrādei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īsteno L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590560" y="6629400"/>
            <a:ext cx="1981080" cy="46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-720" bIns="-7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3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876920" y="6583320"/>
            <a:ext cx="3657600" cy="46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-720" bIns="-7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3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480112F-3589-4EE1-B3B2-0851102FE50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Picture 6" descr="Attēlu rezultāti vaicājumam “photos for registration”"/>
          <p:cNvPicPr/>
          <p:nvPr/>
        </p:nvPicPr>
        <p:blipFill>
          <a:blip r:embed="rId1"/>
          <a:stretch/>
        </p:blipFill>
        <p:spPr>
          <a:xfrm flipH="1" rot="18840000">
            <a:off x="7716240" y="243360"/>
            <a:ext cx="1182600" cy="11826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8" descr=""/>
          <p:cNvPicPr/>
          <p:nvPr/>
        </p:nvPicPr>
        <p:blipFill>
          <a:blip r:embed="rId2"/>
          <a:stretch/>
        </p:blipFill>
        <p:spPr>
          <a:xfrm>
            <a:off x="7989840" y="4873680"/>
            <a:ext cx="102240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64880" y="550800"/>
            <a:ext cx="6751800" cy="1046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Pieteikšanās reģistrācijai </a:t>
            </a:r>
            <a:br>
              <a:rPr sz="2400"/>
            </a:b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un a</a:t>
            </a: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ヒラギノ角ゴ Pro W3"/>
              </a:rPr>
              <a:t>tbalsta saņemšanas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8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54BD44C-B11A-4FD8-86B7-54CD9152EEE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4" descr=""/>
          <p:cNvPicPr/>
          <p:nvPr/>
        </p:nvPicPr>
        <p:blipFill>
          <a:blip r:embed="rId1"/>
          <a:stretch/>
        </p:blipFill>
        <p:spPr>
          <a:xfrm>
            <a:off x="1211400" y="2538360"/>
            <a:ext cx="1638000" cy="1636920"/>
          </a:xfrm>
          <a:prstGeom prst="rect">
            <a:avLst/>
          </a:prstGeom>
          <a:ln w="0">
            <a:noFill/>
          </a:ln>
        </p:spPr>
      </p:pic>
      <p:cxnSp>
        <p:nvCxnSpPr>
          <p:cNvPr id="560" name="Straight Arrow Connector 7"/>
          <p:cNvCxnSpPr/>
          <p:nvPr/>
        </p:nvCxnSpPr>
        <p:spPr>
          <a:xfrm flipV="1">
            <a:off x="3018240" y="2562840"/>
            <a:ext cx="930240" cy="3434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561" name="Picture 10" descr=""/>
          <p:cNvPicPr/>
          <p:nvPr/>
        </p:nvPicPr>
        <p:blipFill>
          <a:blip r:embed="rId2"/>
          <a:stretch/>
        </p:blipFill>
        <p:spPr>
          <a:xfrm>
            <a:off x="4199040" y="1919160"/>
            <a:ext cx="1141200" cy="1116000"/>
          </a:xfrm>
          <a:prstGeom prst="rect">
            <a:avLst/>
          </a:prstGeom>
          <a:ln w="0">
            <a:noFill/>
          </a:ln>
        </p:spPr>
      </p:pic>
      <p:cxnSp>
        <p:nvCxnSpPr>
          <p:cNvPr id="562" name="Straight Arrow Connector 9"/>
          <p:cNvCxnSpPr/>
          <p:nvPr/>
        </p:nvCxnSpPr>
        <p:spPr>
          <a:xfrm>
            <a:off x="4876560" y="3123720"/>
            <a:ext cx="1080" cy="9630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563" name="Picture 11" descr=""/>
          <p:cNvPicPr/>
          <p:nvPr/>
        </p:nvPicPr>
        <p:blipFill>
          <a:blip r:embed="rId3"/>
          <a:stretch/>
        </p:blipFill>
        <p:spPr>
          <a:xfrm>
            <a:off x="4199040" y="4149720"/>
            <a:ext cx="1101600" cy="1062000"/>
          </a:xfrm>
          <a:prstGeom prst="rect">
            <a:avLst/>
          </a:prstGeom>
          <a:ln w="0">
            <a:noFill/>
          </a:ln>
        </p:spPr>
      </p:pic>
      <p:cxnSp>
        <p:nvCxnSpPr>
          <p:cNvPr id="564" name="Straight Arrow Connector 11"/>
          <p:cNvCxnSpPr/>
          <p:nvPr/>
        </p:nvCxnSpPr>
        <p:spPr>
          <a:xfrm>
            <a:off x="3019320" y="4013280"/>
            <a:ext cx="953280" cy="35892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5" name="Content Placeholder 8"/>
          <p:cNvSpPr/>
          <p:nvPr/>
        </p:nvSpPr>
        <p:spPr>
          <a:xfrm>
            <a:off x="5673600" y="1797120"/>
            <a:ext cx="280512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1f497d"/>
                </a:solidFill>
                <a:latin typeface="Verdana"/>
              </a:rPr>
              <a:t>Labklājības ministri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Jāreģistrējas</a:t>
            </a:r>
            <a:r>
              <a:rPr b="0" lang="lv-LV" sz="1200" spc="-1" strike="noStrike">
                <a:solidFill>
                  <a:srgbClr val="17375e"/>
                </a:solidFill>
                <a:latin typeface="Verdana"/>
              </a:rPr>
              <a:t> LM pasākuma dalībnieku reģistr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Content Placeholder 8"/>
          <p:cNvSpPr/>
          <p:nvPr/>
        </p:nvSpPr>
        <p:spPr>
          <a:xfrm>
            <a:off x="835200" y="4305240"/>
            <a:ext cx="244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Verdana"/>
              </a:rPr>
              <a:t>Uzņēm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1f497d"/>
                </a:solidFill>
                <a:latin typeface="Verdana"/>
              </a:rPr>
              <a:t>Komersants, biedrība, nodibināju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5562720" y="4149720"/>
            <a:ext cx="27288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AL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Jāiesniedz biznesa plāns</a:t>
            </a:r>
            <a:r>
              <a:rPr b="0" lang="lv-LV" sz="1200" spc="-1" strike="noStrike">
                <a:solidFill>
                  <a:srgbClr val="17375e"/>
                </a:solidFill>
                <a:latin typeface="Verdana"/>
              </a:rPr>
              <a:t> ALTUM (vērtē ALTUM) un sociālās ietekmes apraksts (vērtē LM), </a:t>
            </a: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tiek slēgts līgums par</a:t>
            </a:r>
            <a:r>
              <a:rPr b="0" lang="lv-LV" sz="1200" spc="-1" strike="noStrike">
                <a:solidFill>
                  <a:srgbClr val="17375e"/>
                </a:solidFill>
                <a:latin typeface="Verdana"/>
              </a:rPr>
              <a:t> finanšu </a:t>
            </a: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atbalsta saņemšan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050920" y="544320"/>
            <a:ext cx="6096240" cy="1035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2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Turpmāk plānotās aktivitātes </a:t>
            </a:r>
            <a:br>
              <a:rPr sz="18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39760" y="1795320"/>
            <a:ext cx="6718320" cy="4510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800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tlaban norisinās darbs pie Ministru kabineta noteikumu grozījumu izstrādes 2015.gada 11.augusta noteikumiem Nr.467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Darbības programmas "Izaugsme un nodarbinātība" 9.1.1. specifiskā atbalsta mērķa "Palielināt nelabvēlīgākā situācijā esošu bezdarbnieku iekļaušanos darba tirgū" 9.1.1.3.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sākuma "Atbalsts sociālajai uzņēmējdarbībai"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īstenošanas noteikumi» ietva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eģistrācija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LM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pasākuma dalībnieku reģistrā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n atbalsta saņemšana ALTUM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zsāksies </a:t>
            </a:r>
            <a:r>
              <a:rPr b="1" lang="lv-LV" sz="16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pēc MK noteikumu Nr.467 grozījumu stāšanās spēkā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6ED4B9E-C35F-43F7-8AD8-6CF2EA6841A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Picture 6" descr=""/>
          <p:cNvPicPr/>
          <p:nvPr/>
        </p:nvPicPr>
        <p:blipFill>
          <a:blip r:embed="rId1"/>
          <a:stretch/>
        </p:blipFill>
        <p:spPr>
          <a:xfrm>
            <a:off x="7186680" y="3838680"/>
            <a:ext cx="1728720" cy="17269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7" descr=""/>
          <p:cNvPicPr/>
          <p:nvPr/>
        </p:nvPicPr>
        <p:blipFill>
          <a:blip r:embed="rId2"/>
          <a:stretch/>
        </p:blipFill>
        <p:spPr>
          <a:xfrm>
            <a:off x="6878520" y="1365120"/>
            <a:ext cx="226548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928880" y="603000"/>
            <a:ext cx="7129440" cy="887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2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Informācija biedrībām un nodibinājumi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293760" y="1638360"/>
            <a:ext cx="8393040" cy="4991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2016.gada 15.decembrī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LR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aeimā  pirmajā lasījumā  pieņemt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ās uzņēmējdarbības likum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 kas paredz, ka sociālā uzņēmuma statusu Latvijā varēs iegūt </a:t>
            </a:r>
            <a:r>
              <a:rPr b="0" lang="lv-LV" sz="16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komersant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(plānotā spēkā stāšanās 2018. gada 1. janvārī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Likuma apstiprināšanas un spēkā stāšanās gadījumā,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biedrības un nodibinājumi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 kas projekta ietvaros 2017.gadā būs noslēguši līgumu ar «Altum» par finanšu atbalsta saņemšanu,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varēs turpināt darboties esošajā biedrības un nodibinājuma statusā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līguma darbības laikā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Atkārtotai pretendēšanai finanšu atbalsta saņemšanai projekta ietvaros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no 2018. gada 1. janvāra, biedrībai un nodibinājumam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būs jāpārreģistrējas par komersantu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askaņā ar jauno likum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Biedrības un nodibinājumi tiks informēti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par iespējamām izmaiņām projekta ietvaros un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tālāko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īcību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E62DBC1-5AD7-4DD8-8790-34176945A84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366480" y="3225600"/>
            <a:ext cx="8289720" cy="2508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lv-LV" sz="2800" spc="-1" strike="noStrike">
                <a:solidFill>
                  <a:srgbClr val="404040"/>
                </a:solidFill>
                <a:latin typeface="Verdana"/>
                <a:ea typeface="Verdana"/>
              </a:rPr>
              <a:t>Paldi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lv-LV" sz="1400" spc="-1" strike="noStrike">
                <a:solidFill>
                  <a:srgbClr val="000000"/>
                </a:solidFill>
                <a:latin typeface="Verdana"/>
                <a:ea typeface="Verdana"/>
              </a:rPr>
              <a:t>www.lm.gov.l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Raitis Bukovskis</cp:lastModifiedBy>
  <cp:lastPrinted>2017-01-24T12:45:49Z</cp:lastPrinted>
  <dcterms:modified xsi:type="dcterms:W3CDTF">2017-02-13T09:51:00Z</dcterms:modified>
  <cp:revision>420</cp:revision>
  <dc:subject/>
  <dc:title>PowerPoint Presentation</dc:title>
</cp:coreProperties>
</file>